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C4A-B459-41E2-ABE8-EBF732AE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E30-7411-4EEE-8570-82CE4C72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869-79D2-4CBE-8549-A8B69B42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C02-FE9C-45E2-9A8A-AD61EF09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1DC-7932-41D8-98DD-DA1F33E7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62D-7601-483A-BCDD-8C6B0DFB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E0A-87B4-466D-A6B9-59D624FC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9F2-88E5-4868-B212-154BD42B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BD1-D3D4-4F28-92A9-2470D563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CFE-92B3-4C85-98B5-8EB2D418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E30-6B9A-45B8-B5EF-466D27C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F05-0955-4A9C-9FF5-20EBFF6A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4BAA5-75F8-4CCC-A973-285FB65B58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58C17-3A5C-46A8-B3EA-177043A73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age001.jpg"/>
          <p:cNvPicPr/>
          <p:nvPr/>
        </p:nvPicPr>
        <p:blipFill>
          <a:blip r:embed="rId1"/>
          <a:stretch/>
        </p:blipFill>
        <p:spPr>
          <a:xfrm>
            <a:off x="268200" y="0"/>
            <a:ext cx="63216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10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11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12.jpg"/>
          <p:cNvPicPr/>
          <p:nvPr/>
        </p:nvPicPr>
        <p:blipFill>
          <a:blip r:embed="rId1"/>
          <a:stretch/>
        </p:blipFill>
        <p:spPr>
          <a:xfrm>
            <a:off x="0" y="109440"/>
            <a:ext cx="6858000" cy="892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13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4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image015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16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image017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mage018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image019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image002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image020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558880" y="2863800"/>
            <a:ext cx="14986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solidFill>
                    <a:srgbClr val="974706"/>
                  </a:solidFill>
                </a:ln>
                <a:solidFill>
                  <a:srgbClr val="e36c0a"/>
                </a:solidFill>
                <a:effectLst>
                  <a:outerShdw dist="12600" dir="5400000" blurRad="0" rotWithShape="0">
                    <a:srgbClr val="76923c">
                      <a:alpha val="50000"/>
                    </a:srgbClr>
                  </a:outerShdw>
                </a:effectLst>
                <a:latin typeface="Calibri"/>
              </a:rPr>
              <a:t>The End</a:t>
            </a:r>
            <a:endParaRPr b="1" lang="en-US" sz="1800" spc="1" strike="noStrike">
              <a:ln w="0">
                <a:solidFill>
                  <a:srgbClr val="974706"/>
                </a:solidFill>
              </a:ln>
              <a:solidFill>
                <a:srgbClr val="e36c0a"/>
              </a:solidFill>
              <a:effectLst>
                <a:outerShdw dist="12600" dir="5400000" blurRad="0" rotWithShape="0">
                  <a:srgbClr val="76923c">
                    <a:alpha val="5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image003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age004.jpg"/>
          <p:cNvPicPr/>
          <p:nvPr/>
        </p:nvPicPr>
        <p:blipFill>
          <a:blip r:embed="rId1"/>
          <a:stretch/>
        </p:blipFill>
        <p:spPr>
          <a:xfrm>
            <a:off x="0" y="198360"/>
            <a:ext cx="6858000" cy="87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age005.jpg"/>
          <p:cNvPicPr/>
          <p:nvPr/>
        </p:nvPicPr>
        <p:blipFill>
          <a:blip r:embed="rId1"/>
          <a:stretch/>
        </p:blipFill>
        <p:spPr>
          <a:xfrm>
            <a:off x="0" y="166680"/>
            <a:ext cx="6858000" cy="88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age006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7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8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9.jpg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8:22:55Z</dcterms:created>
  <dc:creator>Beverly Moshier</dc:creator>
  <dc:description/>
  <dc:language>en-US</dc:language>
  <cp:lastModifiedBy>Beverly Moshier</cp:lastModifiedBy>
  <dcterms:modified xsi:type="dcterms:W3CDTF">2011-12-21T18:44:48Z</dcterms:modified>
  <cp:revision>1</cp:revision>
  <dc:subject/>
  <dc:title>Slide 1</dc:title>
</cp:coreProperties>
</file>